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D1B-42E9-4A42-BE08-CC2E2D714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CF1-D6CB-45C0-83DE-413ABB394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DDB6-C055-422D-BDA2-5860A23939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B9CF-5271-4653-BA77-1EC8CB3AF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8A8-7702-493A-8DCA-D90028661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A9F-ACC0-46CF-9D75-2A0F1F05E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D14-383C-4512-9344-8ACE6E8F1D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DB6-7E79-4EF3-AB2E-87BD4DC64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4D60-4249-456E-A276-A6C249E2F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837-F5ED-47BA-9CC2-F21A12209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C13-1F0B-43EB-96C3-9495CB60E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C9F9-5382-42DC-B6DC-3A7B3F0A55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8205-0686-4246-82A7-1028F3B9D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8A4-B73B-4D3F-B421-6553946D1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5C96-706E-4063-90F9-948DB5817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57CB-63A9-4074-BD26-A877B0E32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771-7731-4F2E-9DBB-12F83D8D3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450-4018-41C4-9E2C-304A5B6CB8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A86C-543A-4026-BC40-74D7982CB4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A25-F675-4C37-AC5B-B51CA15479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4A4-7406-4E20-ABDC-BADE653D0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C0E-C21D-43D8-8422-25A859C0D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0C1-F031-48C5-9FAC-95BA89092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19A-512E-4747-8E7B-20E711A02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BA3-AB2E-441A-A8BD-C3A519B89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4F4A-ABA4-40CE-B78A-44BEF75B1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6EA-0EDE-4903-9F2C-4D1FDBF387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31D-7D77-4CA6-AC48-F1759F3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6F3-5BBE-4EA2-97A2-18C92B3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A6B-FC49-4DD6-8150-A8A5A6FA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18-5672-49AF-9AD2-282FB7DD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3C4-0C87-4DCE-9C78-2BB08E1F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67A-AE59-48C2-9723-689084B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F29F-C8B7-43CC-88B1-959A48BF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3CA9-75C7-49A6-8005-9EF094F7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FC9-1715-4793-B143-F0FA486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702-FD20-4943-B6F7-9D96CD1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AF4-CA43-40CF-B91F-D03ADC2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012-9ABC-4EAC-867E-26F33D0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5932-2578-49D9-A1D6-7110383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C25-FDF1-427D-B295-51FE372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B9C-7464-4615-93A3-7C99968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DCF8-93DB-4CC6-9BB9-E9668F31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3A3E-FF9D-42BC-B6E0-2C96F9B7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B8F93-82FD-4B13-B3EA-CF0944327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8B326-F3B9-4283-84AC-46C1C782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C07A4-0E9A-4DAB-B00C-2A266510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457A-BF24-4815-AD37-0A03430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B8E4B-69EF-42D7-8C74-A263B05B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716-C244-438A-8C6E-A28077F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84D4C-767A-4641-8E42-2E080B8B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D575C-66B3-46D0-A8EC-2FA22777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AFA01-ED61-40F4-94B6-95DA119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5820A-485A-431A-9E4C-3D003AD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2C88D-2F93-4C78-BB4F-6167FF5C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B2032-A648-45E3-B1E4-3B9FFDC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D0957-D77D-4C60-B7DF-C424956AA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145-DE6E-4D6F-9CE9-D8A4241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7E4-3B60-453B-ABB9-9D76CD0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028-514B-4817-8468-EC808FCD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ABD-7DC7-4CDB-9ACF-5EB83C2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52B-CC3C-4DBC-AAC1-B0B1A4C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C15-BC57-41EC-8115-6C08211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CCC-6228-46B6-9870-0620255A05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9 Pearson Education, Inc. Publishing as Long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A479-F431-4CF9-A1EE-28B145EA5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4609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019920"/>
            <a:ext cx="21337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3EA-0431-49F6-BE39-732859BA6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vil Libertie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2009 Pearson Education, Inc. Publishing as Long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dwards, Wattenberg, and Lineber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Government in America: People, Politics, and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Fourteen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e Speech and Public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ch is limited if it presents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ear and present danger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chenck v. U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1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missible to advocate the violent overthrow of government in abstract, but not to incite anyone to imminent lawless 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randenburg v. Ohio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ch is generally protected in public places, but usually not on anoth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private proper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Press and Fair Tri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extensive press coverage of high profile trials (OJ Simpson; Martha Stewart) permissible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ublic has a right to know what happens; trial must be open to the publi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wn information about a trial may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 protect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et, some states have passed shield laws to protect report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bsce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clear definition on what constitutes obscen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ustice Potter Stewart: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know it when I see it.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iller v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aliforni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1973) stated that materials were obscene if the work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peals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a prurient interest in se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owed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tently offensiv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sexual con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acks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rious literary, artistic, political or scientific valu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sions on obscenity are based on local community standard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l and Slan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bel: the publication of false or malicious statements that damage someon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repu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ander: the same thing, only spoken instead of prin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New York Times v. Sullivan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4): statements about public figures are libelous only if made with reckless disregard for truth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vate individuals have lower standard to meet to win libel lawsu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bolic 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nonverbal communication, such as burning a flag or wearing an armb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enerally protected along with verbal spe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exas v. Johns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89): Burning the American flag is symbolic speech protected by the First Amendm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ial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communication in the form of advert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ly the most restricted and regulated form of speech (Federal Trade Commissi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tion of the Public Airwa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adcast stations must follow Federal Communication Commission ru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tion must be narrowly tailored to promote a compelling governmental inter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United States v. Playboy Entertainment Group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200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Assembl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ht to Assem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ly permissible to gather in a public place, but must meet reasonable local standards, such as fire codes and apply for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lance between freedom and or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ht to Associ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eedom to join groups or associations without government interfer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NAACP v. Alabama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58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ch of the Bill of Rights (Amendments 4, 5, 6, 7, and 8) apply to defendant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igh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preting Defendant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iminal Justice personnel are limited by the Bill of Rights and failure to follow constitutional protections may invalidate a convi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rts continually rule on what is constitutional and what is no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on National, State, and Local Gun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trictions on owning and carrying handgu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ckground che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the sale of certain types of weapon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ments that guns be stored in a fashion to prevent their theft or children from accessing and firing th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rts have usually upheld thes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litia Clau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advocates of gun control argued that the Second Amendment applied only to the right of states to create militi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District of Columbia v. Helle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2008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 right to possess a firearm unconnected with service in a milit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that arm for traditionally lawful purposes, such as self-defense within the ho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ill of Rights–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n and No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vil Liberties: the legal constitutional protections against the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ill of Rights: first 10 amendments, which protect basic liberties, such as religion and 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o Bear A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rpor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.C. vs. Heller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es not directly incorporate the Second Amendment: D.C. is not a st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McDonald v. Chicago (2010)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corporated the Second Amendment to the st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arches and Seiz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bable Cause: when the police have reason to believe that a person should be arres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reasonable searches and seizures: evidence is obtained in a haphazard or random manner, prohibited by the Fourth Amend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lusionary Rule: the rule that evidence, no matter how incriminating, cannot be introduced into trial if it was not constitutionally obtain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Mapp v. Ohio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Incrimi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when an individual accused of a crime is compelled to be a witness against himself or herself in cou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e must inform suspects of these and other Fifth Amendment protections upon arre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iranda v. Arizon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ection from coerced confessions and entrap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Right to Couns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tate must provide lawyers in most criminal cases (Sixth Amendment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Gideon v. Wainwright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196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ea bargaining: a bargain between the prosecution and defense for a defendant to plead guilty to a lesser crime; 90 percent of cases end here and do not go to tri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uries generally consist of 12 people, but unanimity is not always needed to convic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ixth Amendment also guarantees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edy and publ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r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endants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uel and Unusual Punis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Eighth Amendment forbids cruel and unusual punishm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eath penalty is not cruel and unusual.  It i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xtreme sanction, suitable to the most extreme crimes.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Gregg v. Georgi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eath penal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use and application varies by st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to Priv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re a Right to Privac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the right to a private personal live free from the intrusion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explicitly stated in the Constitution, but implied by the Fourth Amend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Griswold v. Connecticu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to Priv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1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181480" cy="3397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oversy over Abor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oe v. Wad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197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lanned Parenthood v. Case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9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s of those seeking an abor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hts of protes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Civil Liber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vil Liberties and Democra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hts ensured in the Bill of Rights are essential to democrac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rts typically protect civil liberties from excesses of majority ru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vil Liberties and the Scope of 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deciding between freedom and order, the United States generally chooses liber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ivil liberties limit the scope of government, even though government efforts are needs to protect righ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vil liberties are expressed in the Bill of Righ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the individua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protections—for religion, expression, assembly, and the accused—against the govern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gislatures and courts constantly define what the Bill of Rights protects in pract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rcRect l="0" t="19546" r="0" b="1954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0" t="20242" r="0" b="2024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ll of Rights—Then and 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ill of Rights and the St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ritten to restrict the national 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gress shall make no law…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arron v. Baltimore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18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 have been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orporat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rough the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mendment, and now restrict state and local govern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rst Amendment protection of speech first incorporated to states in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Gitlow v. New Yor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(192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stablishment Cla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ress shall make no law respecting the establishment of religion…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Lemon v. Kurtzma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197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ular legislative purp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ither advance nor inhibit relig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excessive government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anglemen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stablishment Clause (continue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school vouchers constitutional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Zelman v. Simmons-Harri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200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ayer in public schools violates Establishment Claus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ngel v. Vital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6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about displays of the Ten Commandment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Relig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ree Exercise Cla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hibits government from interfering with the practice of relig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me religious practices may conflict with other rights, and then be denied or punish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mployment Division v. Smith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88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igious Freedom Restoration Act (199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eedom of 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or Restra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: a government preventing material from being published; censorship; unconstitution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ear v. Minnesota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93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be permissible during war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e may be punishe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omething is publish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9:58:07Z</dcterms:created>
  <dc:creator>Matthew Eshbaugh-Soha</dc:creator>
  <dc:description/>
  <dc:language>en-US</dc:language>
  <cp:lastModifiedBy>madisonk Madison</cp:lastModifiedBy>
  <dcterms:modified xsi:type="dcterms:W3CDTF">2014-09-30T15:21:24Z</dcterms:modified>
  <cp:revision>99</cp:revision>
  <dc:subject/>
  <dc:title>Civil Liberties and Public Policy</dc:title>
</cp:coreProperties>
</file>